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17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65480" cy="4809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1"/>
          </p:nvPr>
        </p:nvSpPr>
        <p:spPr>
          <a:xfrm>
            <a:off x="4138200" y="0"/>
            <a:ext cx="3164040" cy="4809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255680" y="717120"/>
            <a:ext cx="4797360" cy="359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974520" y="4554000"/>
            <a:ext cx="5352840" cy="4316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2"/>
          </p:nvPr>
        </p:nvSpPr>
        <p:spPr>
          <a:xfrm>
            <a:off x="-360" y="9107640"/>
            <a:ext cx="3165480" cy="4809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3"/>
          </p:nvPr>
        </p:nvSpPr>
        <p:spPr>
          <a:xfrm>
            <a:off x="413820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B7E0A5A-B846-44D5-BF68-89A7093CC69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255680" y="71748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392040" y="4343040"/>
            <a:ext cx="578016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oliennummernplatzhalter 3"/>
          <p:cNvSpPr/>
          <p:nvPr/>
        </p:nvSpPr>
        <p:spPr>
          <a:xfrm>
            <a:off x="41385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C0940CA-1899-4851-B006-E96D6A7DE831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5680" y="71748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74520" y="4554000"/>
            <a:ext cx="5352840" cy="43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oliennummernplatzhalter 3"/>
          <p:cNvSpPr/>
          <p:nvPr/>
        </p:nvSpPr>
        <p:spPr>
          <a:xfrm>
            <a:off x="41385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B4E3ACD-6AE4-4C67-9C8C-70A2064E51A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5680" y="71748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74520" y="4554000"/>
            <a:ext cx="5352840" cy="43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oliennummernplatzhalter 3"/>
          <p:cNvSpPr/>
          <p:nvPr/>
        </p:nvSpPr>
        <p:spPr>
          <a:xfrm>
            <a:off x="41385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8CAD8A4-565E-4442-AD2D-77DB8BD85B0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1385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248CF79-6DA6-40DF-9D24-86B88D2F5EC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689040" y="297000"/>
            <a:ext cx="5911920" cy="4433760"/>
          </a:xfrm>
          <a:prstGeom prst="rect">
            <a:avLst/>
          </a:prstGeom>
          <a:ln w="0">
            <a:noFill/>
          </a:ln>
        </p:spPr>
      </p:sp>
      <p:sp>
        <p:nvSpPr>
          <p:cNvPr id="323" name="Notizenplatzhalter 1"/>
          <p:cNvSpPr/>
          <p:nvPr/>
        </p:nvSpPr>
        <p:spPr>
          <a:xfrm>
            <a:off x="974880" y="4554360"/>
            <a:ext cx="5352840" cy="43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91760" y="4730760"/>
            <a:ext cx="66848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385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9958004-D228-419B-8448-CA3DC3BF819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689040" y="297000"/>
            <a:ext cx="5911920" cy="4433760"/>
          </a:xfrm>
          <a:prstGeom prst="rect">
            <a:avLst/>
          </a:prstGeom>
          <a:ln w="0">
            <a:noFill/>
          </a:ln>
        </p:spPr>
      </p:sp>
      <p:sp>
        <p:nvSpPr>
          <p:cNvPr id="327" name="Notizenplatzhalter 1"/>
          <p:cNvSpPr/>
          <p:nvPr/>
        </p:nvSpPr>
        <p:spPr>
          <a:xfrm>
            <a:off x="974880" y="4554360"/>
            <a:ext cx="5352840" cy="43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91760" y="4730760"/>
            <a:ext cx="66848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41385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469C1A5-CCD6-43E3-83C8-994E6254278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689040" y="297000"/>
            <a:ext cx="5911920" cy="4433760"/>
          </a:xfrm>
          <a:prstGeom prst="rect">
            <a:avLst/>
          </a:prstGeom>
          <a:ln w="0">
            <a:noFill/>
          </a:ln>
        </p:spPr>
      </p:sp>
      <p:sp>
        <p:nvSpPr>
          <p:cNvPr id="331" name="Notizenplatzhalter 1"/>
          <p:cNvSpPr/>
          <p:nvPr/>
        </p:nvSpPr>
        <p:spPr>
          <a:xfrm>
            <a:off x="974880" y="4554360"/>
            <a:ext cx="5352840" cy="43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91760" y="4730760"/>
            <a:ext cx="66848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41385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5251297-3B2B-4CCE-B339-E806965068E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689040" y="297000"/>
            <a:ext cx="5911920" cy="4433760"/>
          </a:xfrm>
          <a:prstGeom prst="rect">
            <a:avLst/>
          </a:prstGeom>
          <a:ln w="0">
            <a:noFill/>
          </a:ln>
        </p:spPr>
      </p:sp>
      <p:sp>
        <p:nvSpPr>
          <p:cNvPr id="335" name="Notizenplatzhalter 1"/>
          <p:cNvSpPr/>
          <p:nvPr/>
        </p:nvSpPr>
        <p:spPr>
          <a:xfrm>
            <a:off x="974880" y="4554360"/>
            <a:ext cx="5352840" cy="43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91760" y="4730760"/>
            <a:ext cx="66848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385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4EB7331-24C7-4CA0-A350-C3EBFEDA117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689040" y="297000"/>
            <a:ext cx="5911920" cy="4433760"/>
          </a:xfrm>
          <a:prstGeom prst="rect">
            <a:avLst/>
          </a:prstGeom>
          <a:ln w="0">
            <a:noFill/>
          </a:ln>
        </p:spPr>
      </p:sp>
      <p:sp>
        <p:nvSpPr>
          <p:cNvPr id="339" name="Notizenplatzhalter 1"/>
          <p:cNvSpPr/>
          <p:nvPr/>
        </p:nvSpPr>
        <p:spPr>
          <a:xfrm>
            <a:off x="974880" y="4554360"/>
            <a:ext cx="5352840" cy="43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91760" y="4730760"/>
            <a:ext cx="66848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41385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00E962F-33B4-4556-A02E-409DF62DDE4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689040" y="297000"/>
            <a:ext cx="5911920" cy="4433760"/>
          </a:xfrm>
          <a:prstGeom prst="rect">
            <a:avLst/>
          </a:prstGeom>
          <a:ln w="0">
            <a:noFill/>
          </a:ln>
        </p:spPr>
      </p:sp>
      <p:sp>
        <p:nvSpPr>
          <p:cNvPr id="343" name="Notizenplatzhalter 1"/>
          <p:cNvSpPr/>
          <p:nvPr/>
        </p:nvSpPr>
        <p:spPr>
          <a:xfrm>
            <a:off x="974880" y="4554360"/>
            <a:ext cx="5352840" cy="43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91760" y="4730760"/>
            <a:ext cx="66848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41385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0AEA102-2AF5-42DC-ADC2-AACAAF39A88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689040" y="297000"/>
            <a:ext cx="5911920" cy="4433760"/>
          </a:xfrm>
          <a:prstGeom prst="rect">
            <a:avLst/>
          </a:prstGeom>
          <a:ln w="0">
            <a:noFill/>
          </a:ln>
        </p:spPr>
      </p:sp>
      <p:sp>
        <p:nvSpPr>
          <p:cNvPr id="347" name="Notizenplatzhalter 1"/>
          <p:cNvSpPr/>
          <p:nvPr/>
        </p:nvSpPr>
        <p:spPr>
          <a:xfrm>
            <a:off x="974880" y="4554360"/>
            <a:ext cx="5352840" cy="43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91760" y="4730760"/>
            <a:ext cx="66848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41385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317A020-AEAB-48A2-906A-18226552A89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689040" y="297000"/>
            <a:ext cx="5911920" cy="4433760"/>
          </a:xfrm>
          <a:prstGeom prst="rect">
            <a:avLst/>
          </a:prstGeom>
          <a:ln w="0">
            <a:noFill/>
          </a:ln>
        </p:spPr>
      </p:sp>
      <p:sp>
        <p:nvSpPr>
          <p:cNvPr id="351" name="Notizenplatzhalter 1"/>
          <p:cNvSpPr/>
          <p:nvPr/>
        </p:nvSpPr>
        <p:spPr>
          <a:xfrm>
            <a:off x="974880" y="4554360"/>
            <a:ext cx="5352840" cy="43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91760" y="4730760"/>
            <a:ext cx="66848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255680" y="71748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74520" y="4554000"/>
            <a:ext cx="5352840" cy="43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Foliennummernplatzhalter 3"/>
          <p:cNvSpPr/>
          <p:nvPr/>
        </p:nvSpPr>
        <p:spPr>
          <a:xfrm>
            <a:off x="41385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88FCC3E-457A-44B1-B176-8A3DC6250E1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41385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8A6A26E-D872-4E7A-9DF1-BCA2AC55EEA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689040" y="297000"/>
            <a:ext cx="5911920" cy="4433760"/>
          </a:xfrm>
          <a:prstGeom prst="rect">
            <a:avLst/>
          </a:prstGeom>
          <a:ln w="0">
            <a:noFill/>
          </a:ln>
        </p:spPr>
      </p:sp>
      <p:sp>
        <p:nvSpPr>
          <p:cNvPr id="355" name="Notizenplatzhalter 1"/>
          <p:cNvSpPr/>
          <p:nvPr/>
        </p:nvSpPr>
        <p:spPr>
          <a:xfrm>
            <a:off x="974880" y="4554360"/>
            <a:ext cx="5352840" cy="43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91760" y="4730760"/>
            <a:ext cx="66848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385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76E2026-7520-4CCE-AC90-3EEA25DCB5D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689040" y="297000"/>
            <a:ext cx="5911920" cy="4433760"/>
          </a:xfrm>
          <a:prstGeom prst="rect">
            <a:avLst/>
          </a:prstGeom>
          <a:ln w="0">
            <a:noFill/>
          </a:ln>
        </p:spPr>
      </p:sp>
      <p:sp>
        <p:nvSpPr>
          <p:cNvPr id="359" name="Notizenplatzhalter 1"/>
          <p:cNvSpPr/>
          <p:nvPr/>
        </p:nvSpPr>
        <p:spPr>
          <a:xfrm>
            <a:off x="974880" y="4554360"/>
            <a:ext cx="5352840" cy="43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91760" y="4730760"/>
            <a:ext cx="66848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41385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C946D7F-65C0-4FC3-AEFA-A6AAB2082C7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689040" y="297000"/>
            <a:ext cx="5911920" cy="4433760"/>
          </a:xfrm>
          <a:prstGeom prst="rect">
            <a:avLst/>
          </a:prstGeom>
          <a:ln w="0">
            <a:noFill/>
          </a:ln>
        </p:spPr>
      </p:sp>
      <p:sp>
        <p:nvSpPr>
          <p:cNvPr id="363" name="Notizenplatzhalter 1"/>
          <p:cNvSpPr/>
          <p:nvPr/>
        </p:nvSpPr>
        <p:spPr>
          <a:xfrm>
            <a:off x="974880" y="4554360"/>
            <a:ext cx="5352840" cy="43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91760" y="4730760"/>
            <a:ext cx="66848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41385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8EE2530-3C62-49B5-8EC0-63DC28DA96C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689040" y="297000"/>
            <a:ext cx="5911920" cy="4433760"/>
          </a:xfrm>
          <a:prstGeom prst="rect">
            <a:avLst/>
          </a:prstGeom>
          <a:ln w="0">
            <a:noFill/>
          </a:ln>
        </p:spPr>
      </p:sp>
      <p:sp>
        <p:nvSpPr>
          <p:cNvPr id="367" name="Notizenplatzhalter 1"/>
          <p:cNvSpPr/>
          <p:nvPr/>
        </p:nvSpPr>
        <p:spPr>
          <a:xfrm>
            <a:off x="974880" y="4554360"/>
            <a:ext cx="5352840" cy="43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91760" y="4730760"/>
            <a:ext cx="66848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41385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80557F1-3926-4998-BCBC-A9370B6B8FE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689040" y="297000"/>
            <a:ext cx="5911920" cy="4433760"/>
          </a:xfrm>
          <a:prstGeom prst="rect">
            <a:avLst/>
          </a:prstGeom>
          <a:ln w="0">
            <a:noFill/>
          </a:ln>
        </p:spPr>
      </p:sp>
      <p:sp>
        <p:nvSpPr>
          <p:cNvPr id="371" name="Notizenplatzhalter 1"/>
          <p:cNvSpPr/>
          <p:nvPr/>
        </p:nvSpPr>
        <p:spPr>
          <a:xfrm>
            <a:off x="974880" y="4554360"/>
            <a:ext cx="5352840" cy="43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91760" y="4730760"/>
            <a:ext cx="66848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255680" y="71748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74520" y="4554000"/>
            <a:ext cx="5352840" cy="43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oliennummernplatzhalter 3"/>
          <p:cNvSpPr/>
          <p:nvPr/>
        </p:nvSpPr>
        <p:spPr>
          <a:xfrm>
            <a:off x="41385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8AF63F6-452F-4C74-91AF-043B0BD197A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255680" y="71748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74520" y="4554000"/>
            <a:ext cx="5352840" cy="43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Foliennummernplatzhalter 3"/>
          <p:cNvSpPr/>
          <p:nvPr/>
        </p:nvSpPr>
        <p:spPr>
          <a:xfrm>
            <a:off x="41385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1490179-F47E-4DCD-BCE4-64001C05ED8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385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40A3C26-1AC7-4C21-BE9E-3C0AB251F27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608040" y="304920"/>
            <a:ext cx="6086520" cy="45640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09320" y="5136840"/>
            <a:ext cx="5823000" cy="473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255680" y="71748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74520" y="4554000"/>
            <a:ext cx="5352840" cy="43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oliennummernplatzhalter 3"/>
          <p:cNvSpPr/>
          <p:nvPr/>
        </p:nvSpPr>
        <p:spPr>
          <a:xfrm>
            <a:off x="41385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CD46B69-C0D3-4754-BD06-58036262CBB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1385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4627047-0765-4D73-BED1-47FC53C8F93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689040" y="297000"/>
            <a:ext cx="5911920" cy="4433760"/>
          </a:xfrm>
          <a:prstGeom prst="rect">
            <a:avLst/>
          </a:prstGeom>
          <a:ln w="0">
            <a:noFill/>
          </a:ln>
        </p:spPr>
      </p:sp>
      <p:sp>
        <p:nvSpPr>
          <p:cNvPr id="296" name="Notizenplatzhalter 1"/>
          <p:cNvSpPr/>
          <p:nvPr/>
        </p:nvSpPr>
        <p:spPr>
          <a:xfrm>
            <a:off x="974880" y="4554360"/>
            <a:ext cx="5352840" cy="43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74520" y="4554000"/>
            <a:ext cx="5352840" cy="43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41385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B9FDBC2-DAFF-4D29-9274-CD1ACDE74F5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689040" y="297000"/>
            <a:ext cx="5911920" cy="4433760"/>
          </a:xfrm>
          <a:prstGeom prst="rect">
            <a:avLst/>
          </a:prstGeom>
          <a:ln w="0">
            <a:noFill/>
          </a:ln>
        </p:spPr>
      </p:sp>
      <p:sp>
        <p:nvSpPr>
          <p:cNvPr id="300" name="Notizenplatzhalter 1"/>
          <p:cNvSpPr/>
          <p:nvPr/>
        </p:nvSpPr>
        <p:spPr>
          <a:xfrm>
            <a:off x="974880" y="4554360"/>
            <a:ext cx="5352840" cy="43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74520" y="4554000"/>
            <a:ext cx="5352840" cy="43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55680" y="71748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74520" y="4554000"/>
            <a:ext cx="5352840" cy="43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oliennummernplatzhalter 3"/>
          <p:cNvSpPr/>
          <p:nvPr/>
        </p:nvSpPr>
        <p:spPr>
          <a:xfrm>
            <a:off x="41385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5C9A35A-8F49-4956-B156-DC7A5245FF1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385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7301C1B-AC1D-4112-820C-1424B381C28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689040" y="297000"/>
            <a:ext cx="5911920" cy="4433760"/>
          </a:xfrm>
          <a:prstGeom prst="rect">
            <a:avLst/>
          </a:prstGeom>
          <a:ln w="0">
            <a:noFill/>
          </a:ln>
        </p:spPr>
      </p:sp>
      <p:sp>
        <p:nvSpPr>
          <p:cNvPr id="307" name="Notizenplatzhalter 1"/>
          <p:cNvSpPr/>
          <p:nvPr/>
        </p:nvSpPr>
        <p:spPr>
          <a:xfrm>
            <a:off x="974880" y="4554360"/>
            <a:ext cx="5352840" cy="43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74520" y="4554000"/>
            <a:ext cx="5352840" cy="43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5680" y="71748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74520" y="4554000"/>
            <a:ext cx="5352840" cy="43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oliennummernplatzhalter 3"/>
          <p:cNvSpPr/>
          <p:nvPr/>
        </p:nvSpPr>
        <p:spPr>
          <a:xfrm>
            <a:off x="41385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4502C8E-755A-4985-B6BD-3731F9BBCBF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5680" y="71748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74520" y="4554000"/>
            <a:ext cx="5352840" cy="43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oliennummernplatzhalter 3"/>
          <p:cNvSpPr/>
          <p:nvPr/>
        </p:nvSpPr>
        <p:spPr>
          <a:xfrm>
            <a:off x="41385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B3CB811-22B6-4E42-98AF-D30C45234A5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637440"/>
            <a:ext cx="853416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91440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63744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63744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27478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914400"/>
            <a:ext cx="27478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914400"/>
            <a:ext cx="27478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637440"/>
            <a:ext cx="27478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637440"/>
            <a:ext cx="27478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637440"/>
            <a:ext cx="27478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914400"/>
            <a:ext cx="853416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416448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840" y="914400"/>
            <a:ext cx="416448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6360" y="101520"/>
            <a:ext cx="8532720" cy="20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7840" y="914400"/>
            <a:ext cx="416448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363744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914400"/>
            <a:ext cx="853416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416448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7840" y="91440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7840" y="363744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7840" y="91440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3637440"/>
            <a:ext cx="853416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920" y="3637440"/>
            <a:ext cx="853416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7840" y="91440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63744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7840" y="363744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27478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0680" y="914400"/>
            <a:ext cx="27478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6080" y="914400"/>
            <a:ext cx="27478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920" y="3637440"/>
            <a:ext cx="27478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0680" y="3637440"/>
            <a:ext cx="27478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6080" y="3637440"/>
            <a:ext cx="27478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04920" y="914400"/>
            <a:ext cx="853416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416448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7840" y="914400"/>
            <a:ext cx="416448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06360" y="101520"/>
            <a:ext cx="8532720" cy="20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840" y="914400"/>
            <a:ext cx="416448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4920" y="363744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416448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840" y="91440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7840" y="363744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7840" y="91440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637440"/>
            <a:ext cx="853416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04920" y="3637440"/>
            <a:ext cx="853416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7840" y="91440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63744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7840" y="363744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27478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90680" y="914400"/>
            <a:ext cx="27478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76080" y="914400"/>
            <a:ext cx="27478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04920" y="3637440"/>
            <a:ext cx="27478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190680" y="3637440"/>
            <a:ext cx="27478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76080" y="3637440"/>
            <a:ext cx="27478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416448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914400"/>
            <a:ext cx="416448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6360" y="101520"/>
            <a:ext cx="8532720" cy="20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914400"/>
            <a:ext cx="416448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63744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416448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91440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63744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914400"/>
            <a:ext cx="416448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637440"/>
            <a:ext cx="8534160" cy="24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914400"/>
            <a:ext cx="853416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spcBef>
                <a:spcPts val="1874"/>
              </a:spcBef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052640" indent="-190800">
              <a:spcBef>
                <a:spcPts val="1874"/>
              </a:spcBef>
              <a:buClr>
                <a:srgbClr val="33333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433520" indent="-19044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9828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3772080" y="27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16"/>
          <p:cNvSpPr/>
          <p:nvPr/>
        </p:nvSpPr>
        <p:spPr>
          <a:xfrm>
            <a:off x="7453800" y="654840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chäffer-Kül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7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04920" y="914400"/>
            <a:ext cx="853416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spcBef>
                <a:spcPts val="1874"/>
              </a:spcBef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052640" indent="-190800">
              <a:spcBef>
                <a:spcPts val="1874"/>
              </a:spcBef>
              <a:buClr>
                <a:srgbClr val="33333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433520" indent="-19044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9828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3772080" y="27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7453800" y="654840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chäffer-Kül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7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kt 9"/>
          <p:cNvGraphicFramePr/>
          <p:nvPr/>
        </p:nvGraphicFramePr>
        <p:xfrm>
          <a:off x="109440" y="6338880"/>
          <a:ext cx="1490760" cy="51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Objek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440" y="6338880"/>
                    <a:ext cx="14907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304920" y="914400"/>
            <a:ext cx="853416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spcBef>
                <a:spcPts val="1874"/>
              </a:spcBef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052640" indent="-190800">
              <a:spcBef>
                <a:spcPts val="1874"/>
              </a:spcBef>
              <a:buClr>
                <a:srgbClr val="33333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433520" indent="-19044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Objekt 5"/>
          <p:cNvGraphicFramePr/>
          <p:nvPr/>
        </p:nvGraphicFramePr>
        <p:xfrm>
          <a:off x="1827360" y="857160"/>
          <a:ext cx="6424560" cy="24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k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857160"/>
                    <a:ext cx="6424560" cy="24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itel 1"/>
          <p:cNvSpPr/>
          <p:nvPr/>
        </p:nvSpPr>
        <p:spPr>
          <a:xfrm>
            <a:off x="96840" y="3235320"/>
            <a:ext cx="883908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  <a:ea typeface="Calibri"/>
              </a:rPr>
              <a:t>Arbeitsbezogene Wünsche und Werte als Grund für die Ablehnung der Bundeswehr als Arbeitgeber –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Calibri"/>
                <a:ea typeface="Calibri"/>
              </a:rPr>
              <a:t>Ergebnisse der Messebefragung 202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itel 1"/>
          <p:cNvSpPr/>
          <p:nvPr/>
        </p:nvSpPr>
        <p:spPr>
          <a:xfrm>
            <a:off x="398520" y="5551560"/>
            <a:ext cx="834696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  <a:ea typeface="Calibri"/>
              </a:rPr>
              <a:t>Prof. Dr. Ute Schäffer-Külz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Hochschule des Bundes, FB Bundeswehrverwaltung Mannhei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MIP, Kompetenzbereich Personalpsychologi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9440" y="101520"/>
            <a:ext cx="90345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Arial Black"/>
              </a:rPr>
              <a:t>Auswertung der offenen Fragen</a:t>
            </a: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Textfeld 2"/>
          <p:cNvSpPr/>
          <p:nvPr/>
        </p:nvSpPr>
        <p:spPr>
          <a:xfrm>
            <a:off x="260280" y="1108080"/>
            <a:ext cx="873288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thode: Qualitative Inhaltsanalyse</a:t>
            </a:r>
            <a:br>
              <a:rPr sz="20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thode der empirischen Sozialforschung, bei der Texte systematisch analysiert werden, um Muster, Themen und Bedeutungen zu erkennen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gehen</a:t>
            </a:r>
            <a:br>
              <a:rPr sz="20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ffene Antworten wurden systematisch reduziert und kategorisier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induktives Vorgehen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gebn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wicklung eines (vorläufigen) Kategoriensyst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ordnung der Antworten zu dem Kategoriensystem durch regelgeleitete Interpre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ückkoppelungsschleifen zur Anpassung des Kategoriensyst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szählung der Antworten: Qualitative Daten im Anschluss an die Codierung durch Häufigkeitsbestimmungen quantifizier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Mixed Method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9440" y="101520"/>
            <a:ext cx="90345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Arial Black"/>
              </a:rPr>
              <a:t>Auswertungstabelle - Excel</a:t>
            </a: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Rechteck 3"/>
          <p:cNvSpPr/>
          <p:nvPr/>
        </p:nvSpPr>
        <p:spPr>
          <a:xfrm>
            <a:off x="109440" y="757080"/>
            <a:ext cx="8975880" cy="5403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Grafik 4" descr=""/>
          <p:cNvPicPr/>
          <p:nvPr/>
        </p:nvPicPr>
        <p:blipFill>
          <a:blip r:embed="rId1"/>
          <a:stretch/>
        </p:blipFill>
        <p:spPr>
          <a:xfrm>
            <a:off x="200160" y="808200"/>
            <a:ext cx="9450360" cy="50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Diagramm 1" descr=""/>
          <p:cNvPicPr/>
          <p:nvPr/>
        </p:nvPicPr>
        <p:blipFill>
          <a:blip r:embed="rId1"/>
          <a:stretch/>
        </p:blipFill>
        <p:spPr>
          <a:xfrm>
            <a:off x="49320" y="12600"/>
            <a:ext cx="8955000" cy="66866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9440" y="101520"/>
            <a:ext cx="90345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Arial Black"/>
              </a:rPr>
              <a:t>Kategoriensystem Frage 5</a:t>
            </a: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Diagramm 1" descr=""/>
          <p:cNvPicPr/>
          <p:nvPr/>
        </p:nvPicPr>
        <p:blipFill>
          <a:blip r:embed="rId1"/>
          <a:stretch/>
        </p:blipFill>
        <p:spPr>
          <a:xfrm>
            <a:off x="49320" y="12600"/>
            <a:ext cx="8955000" cy="66866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440" y="101520"/>
            <a:ext cx="90345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Arial Black"/>
              </a:rPr>
              <a:t>Kategoriensystem Frage 5</a:t>
            </a: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Textfeld 3"/>
          <p:cNvSpPr/>
          <p:nvPr/>
        </p:nvSpPr>
        <p:spPr>
          <a:xfrm>
            <a:off x="372960" y="1123920"/>
            <a:ext cx="8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78*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feld 3"/>
          <p:cNvSpPr/>
          <p:nvPr/>
        </p:nvSpPr>
        <p:spPr>
          <a:xfrm>
            <a:off x="1600200" y="1123920"/>
            <a:ext cx="8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6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feld 4"/>
          <p:cNvSpPr/>
          <p:nvPr/>
        </p:nvSpPr>
        <p:spPr>
          <a:xfrm>
            <a:off x="2897280" y="1127160"/>
            <a:ext cx="8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5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feld 5"/>
          <p:cNvSpPr/>
          <p:nvPr/>
        </p:nvSpPr>
        <p:spPr>
          <a:xfrm>
            <a:off x="4194000" y="1130400"/>
            <a:ext cx="8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17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feld 6"/>
          <p:cNvSpPr/>
          <p:nvPr/>
        </p:nvSpPr>
        <p:spPr>
          <a:xfrm>
            <a:off x="5535720" y="1130400"/>
            <a:ext cx="8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feld 7"/>
          <p:cNvSpPr/>
          <p:nvPr/>
        </p:nvSpPr>
        <p:spPr>
          <a:xfrm>
            <a:off x="6729480" y="1130400"/>
            <a:ext cx="8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7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feld 8"/>
          <p:cNvSpPr/>
          <p:nvPr/>
        </p:nvSpPr>
        <p:spPr>
          <a:xfrm>
            <a:off x="8150400" y="1119240"/>
            <a:ext cx="8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feld 3"/>
          <p:cNvSpPr/>
          <p:nvPr/>
        </p:nvSpPr>
        <p:spPr>
          <a:xfrm>
            <a:off x="1844640" y="6300720"/>
            <a:ext cx="569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* Häufigkeiten der Nennungen in den Kategorie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Diagramm 1" descr=""/>
          <p:cNvPicPr/>
          <p:nvPr/>
        </p:nvPicPr>
        <p:blipFill>
          <a:blip r:embed="rId1"/>
          <a:stretch/>
        </p:blipFill>
        <p:spPr>
          <a:xfrm>
            <a:off x="-2249640" y="847800"/>
            <a:ext cx="7255080" cy="54198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9440" y="101520"/>
            <a:ext cx="90345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Arial Black"/>
              </a:rPr>
              <a:t>Erklärung Kategorien und Beispielantworten</a:t>
            </a: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3" name="Textfeld 6"/>
          <p:cNvSpPr/>
          <p:nvPr/>
        </p:nvSpPr>
        <p:spPr>
          <a:xfrm>
            <a:off x="2517840" y="1714680"/>
            <a:ext cx="662616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Erklärung: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Angst vor einem Krieg; Ablehnung der Einmischung in (fremde) Krieg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Textbeispiel(e): 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„Bundeswehr bedeutet „Krieg“; „Ich habe Angst vor einem Krieg“; „Möchte nicht bei jmd. angestellt sein, der Krieg so stark befürwortet oder dessen Geschäft direkt damit zusammenhängt“; „möchte ich nicht in einen Krieg verwickelt werden.“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feld 7"/>
          <p:cNvSpPr/>
          <p:nvPr/>
        </p:nvSpPr>
        <p:spPr>
          <a:xfrm>
            <a:off x="2517840" y="2746440"/>
            <a:ext cx="66261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Erklärung: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Person möchte nicht in den Auslandseinsatz; zu hohes Risiko/Gefahr bei Auslandseinsätz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Textbeispiel(e): 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„Mich schrecken die Auslandseinsätze ab.“; „Ich will nicht sterben“; „Es gibt ein zu hohes Risiko bei Einsätzen.“; „Soldat ist kein sicherer Job, weil man jederzeit erschossen werden kann.“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feld 8"/>
          <p:cNvSpPr/>
          <p:nvPr/>
        </p:nvSpPr>
        <p:spPr>
          <a:xfrm>
            <a:off x="2517840" y="3627360"/>
            <a:ext cx="66261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Erklärung: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zu hohe psychische Belas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Textbeispiel(e): 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„Respekt und Angst vor der Aufgabe, viel Verantwortung, traut sich das nicht zu.“;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„Negativ ist die psychische Belastung“; „das würde ich psychisch nicht durchstehen“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feld 9"/>
          <p:cNvSpPr/>
          <p:nvPr/>
        </p:nvSpPr>
        <p:spPr>
          <a:xfrm>
            <a:off x="2517840" y="4618080"/>
            <a:ext cx="66261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Erklärung: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zu hohe psychische Belast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Textbeispiel(e): 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„zu anstrengend.“; „körperliche Belastung“; „negativ ist die physische Belastung“; „das würde ich körperlich nicht schaffen, Gewaltmärsche mit Gepäck und so“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feld 10"/>
          <p:cNvSpPr/>
          <p:nvPr/>
        </p:nvSpPr>
        <p:spPr>
          <a:xfrm>
            <a:off x="2517840" y="5554800"/>
            <a:ext cx="66261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Erklärung: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Person möchte nicht von der Familie getrennt sei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Textbeispiel(e): 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„möchte bei meiner Familie bleiben.“; „möchte in der Nähe meiner Frau sein“; „man ist selten bei der Familie“; „möchte Job, wo ich jeden Abend Zuhause bei meiner Familie sein kann“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feld 3"/>
          <p:cNvSpPr/>
          <p:nvPr/>
        </p:nvSpPr>
        <p:spPr>
          <a:xfrm>
            <a:off x="1870200" y="1049400"/>
            <a:ext cx="8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7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Diagramm 1" descr=""/>
          <p:cNvPicPr/>
          <p:nvPr/>
        </p:nvPicPr>
        <p:blipFill>
          <a:blip r:embed="rId1"/>
          <a:stretch/>
        </p:blipFill>
        <p:spPr>
          <a:xfrm>
            <a:off x="-2249640" y="847800"/>
            <a:ext cx="7255080" cy="54198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440" y="101520"/>
            <a:ext cx="90345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Arial Black"/>
              </a:rPr>
              <a:t>Erklärung Kategorien und Beispielantworten</a:t>
            </a: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Textfeld 7"/>
          <p:cNvSpPr/>
          <p:nvPr/>
        </p:nvSpPr>
        <p:spPr>
          <a:xfrm>
            <a:off x="2517840" y="2289240"/>
            <a:ext cx="662616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Erklärung: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Verpflichtungszeit zu lang, oder Person möchte sich gar nicht verpflicht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Textbeispiel(e): 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„lange Verpflichtungszeit“; Wollte bei der BW Medizin studieren, aber zu lange Verpflichtung (17 Jahre!)“; „zusätzlich schreckt die Verpflichtungszeit ab.“;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„Weil man sich für mehrere Jahr verpflichten muss“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feld 8"/>
          <p:cNvSpPr/>
          <p:nvPr/>
        </p:nvSpPr>
        <p:spPr>
          <a:xfrm>
            <a:off x="2517840" y="3768840"/>
            <a:ext cx="662616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Erklärung: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keine deutschlandweite Versetzung bzw. keine häufigen Versetzungen gewünscht; Standortunsicherheit als Problem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Textbeispiel(e): 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„deutschlandweite Versetzung schreckt ab“; „häufige Versetzungen“;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„und irgendwo hingeschickt werden kann, ohne Wahl.“; „da muss man ständig umziehen“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feld 10"/>
          <p:cNvSpPr/>
          <p:nvPr/>
        </p:nvSpPr>
        <p:spPr>
          <a:xfrm>
            <a:off x="2517840" y="5302080"/>
            <a:ext cx="66261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Erklärung: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zu große räumliche Entfernung von der Heimat; zu viel unterwegs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Textbeispiel(e): 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„man muss weiter weg“; „Ortsnähe (zu weit weg)“; „möchte in der Region bleiben“; „Keine heimatnahen Dienststellen.“; „Da wäre ich ‚voll oft weg“; „ keine Verwendung in der Nähe“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feld 3"/>
          <p:cNvSpPr/>
          <p:nvPr/>
        </p:nvSpPr>
        <p:spPr>
          <a:xfrm>
            <a:off x="2517840" y="1150920"/>
            <a:ext cx="8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6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Diagramm 1" descr=""/>
          <p:cNvPicPr/>
          <p:nvPr/>
        </p:nvPicPr>
        <p:blipFill>
          <a:blip r:embed="rId1"/>
          <a:stretch/>
        </p:blipFill>
        <p:spPr>
          <a:xfrm>
            <a:off x="-2249640" y="847800"/>
            <a:ext cx="7255080" cy="54198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440" y="101520"/>
            <a:ext cx="90345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Arial Black"/>
              </a:rPr>
              <a:t>Erklärung Kategorien und Beispielantworten</a:t>
            </a: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7" name="Textfeld 6"/>
          <p:cNvSpPr/>
          <p:nvPr/>
        </p:nvSpPr>
        <p:spPr>
          <a:xfrm>
            <a:off x="2570040" y="2063880"/>
            <a:ext cx="662796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Erklärung: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schlechte Bezahlung / niedriges Gehalt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Textbeispiel(e): 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„zu wenig Geld“; „schlechte Bezahlung, keine Bezahlung nach Tarif“;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„Verdienst ist nicht gut“; „Ich verdiene in der freien Wirtschaft mehr.“;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„bei so einem gefährlichen Job müsste man viel mehr Geld verdienen.“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feld 8"/>
          <p:cNvSpPr/>
          <p:nvPr/>
        </p:nvSpPr>
        <p:spPr>
          <a:xfrm>
            <a:off x="2570040" y="3149640"/>
            <a:ext cx="6627960" cy="10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Erklärung: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zu schlechte Ausrüstung, zu geringes Budget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Textbeispiel(e): 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„kaputt gespart“; „Soldaten finden kein Material vor“; „schlechte Ausrüstung“; „Bundeswehr wirkt unterfinanziert“; „Sicherheitsempfinden unwohl, aufgrund Unterfinanzierung“;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„die Ausrüstungssituation ist absolut lächerlich“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feld 9"/>
          <p:cNvSpPr/>
          <p:nvPr/>
        </p:nvSpPr>
        <p:spPr>
          <a:xfrm>
            <a:off x="2517840" y="4167360"/>
            <a:ext cx="66261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Erklärung: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zu strenge Hierarchie / schlechte Führungskräft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Textbeispiel(e): 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„Zu hierarchisch und zu strenge Befehlsketten.“; „BW ist zu hierarchisch. Ich lasse ungern mir was sagen.“; „Ich finde die Hierarchie in der BW nicht gut“; „Anschreierei“ unter den Hierarchie-Ebenen = No-Go“; „und zudem schlechte Vorgesetzte hat, die schlechte Vorbilder sind.“; „Rauer Umgangston erniedrigend.“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feld 10"/>
          <p:cNvSpPr/>
          <p:nvPr/>
        </p:nvSpPr>
        <p:spPr>
          <a:xfrm>
            <a:off x="2517840" y="5640480"/>
            <a:ext cx="66261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Erklärung: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schlechte Arbeitszeiten, Überstunden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Textbeispiel(e): 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„Überstunden“; „wenig Freizeit“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feld 5"/>
          <p:cNvSpPr/>
          <p:nvPr/>
        </p:nvSpPr>
        <p:spPr>
          <a:xfrm>
            <a:off x="2265480" y="1057320"/>
            <a:ext cx="8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5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Diagramm 1" descr=""/>
          <p:cNvPicPr/>
          <p:nvPr/>
        </p:nvPicPr>
        <p:blipFill>
          <a:blip r:embed="rId1"/>
          <a:stretch/>
        </p:blipFill>
        <p:spPr>
          <a:xfrm>
            <a:off x="-2249640" y="847800"/>
            <a:ext cx="7255080" cy="54198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9440" y="101520"/>
            <a:ext cx="90345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Arial Black"/>
              </a:rPr>
              <a:t>Erklärung Kategorien und Beispielantworten</a:t>
            </a: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4" name="Textfeld 6"/>
          <p:cNvSpPr/>
          <p:nvPr/>
        </p:nvSpPr>
        <p:spPr>
          <a:xfrm>
            <a:off x="2517840" y="1714680"/>
            <a:ext cx="662616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Erklärung: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Person ist zufrieden mit dem aktuellen Job/Studium/Ausbildung und strebt keine Veränderung a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Textbeispiel(e): 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„Ich bin zufrieden mit meinem Beruf.“; „bin bei der Feuerwehr“;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„bin selbstständig“; „hat einen „…guten Job…“, ist verbeamtet.“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feld 7"/>
          <p:cNvSpPr/>
          <p:nvPr/>
        </p:nvSpPr>
        <p:spPr>
          <a:xfrm>
            <a:off x="2517840" y="2573280"/>
            <a:ext cx="66261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Erklärung: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Person sieht keine Möglichkeit bei der BW in dem angestrebten Berufsfeld / Studiengang/ Ausbildung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Textbeispiel(e): 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„„Ich finde keine der Berufsfelder dort interessant.“; „Man kann in der Bundeswehr nicht Karriere machen“; „Meine gewünschte Berufsrichtung wird in der BW nicht angeboten“;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„will selbstständig sein“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feld 8"/>
          <p:cNvSpPr/>
          <p:nvPr/>
        </p:nvSpPr>
        <p:spPr>
          <a:xfrm>
            <a:off x="2517840" y="3616200"/>
            <a:ext cx="662616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Erklärung: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zu wenig Wissen / Informationen über BW als Arbeitgeber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Textbeispiel(e): 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„Ich weiß nicht viel über die BW.“; „Ich bin über die BW gar nicht informiert.“;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„Habe schlechtes Hintergrundwissen über die BW.“; „Möglichkeiten wenig populär und bekannt“; „weiß gar nicht welche Berufe die BW anbietet“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feld 9"/>
          <p:cNvSpPr/>
          <p:nvPr/>
        </p:nvSpPr>
        <p:spPr>
          <a:xfrm>
            <a:off x="2517840" y="4495680"/>
            <a:ext cx="66261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Erklärung: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Einfluss der Eltern/ anderer Familienmitglieder hält Person davon ab zur BW zu geh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Textbeispiel(e): 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„Meine Familie (Eltern) sind dagegen.“; „Eltern möchten das nicht, haben Angst um Kinder“; „weil mir meine Eltern abgeraten hatten, war es seitdem gar keine Option.“;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„Meine Eltern wollen, dass ich nach der Schule studiere.“; „meine Mutter würde vor Angst sterben, wenn ich im Krieg wäre“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feld 10"/>
          <p:cNvSpPr/>
          <p:nvPr/>
        </p:nvSpPr>
        <p:spPr>
          <a:xfrm>
            <a:off x="2517840" y="5640480"/>
            <a:ext cx="66261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Erklärung: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BW als Arbeitgeber hat noch keine Rolle gespielt, wurde noch nicht in Erwägung gezog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Textbeispiel(e): 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„ Hab mich damit noch gar nicht befasst.“; „Nie darüber nachgedacht“;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„Ich habe auch noch nicht weiter über die Bundeswehr als Arbeitgeber nachgedacht.“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feld 11"/>
          <p:cNvSpPr/>
          <p:nvPr/>
        </p:nvSpPr>
        <p:spPr>
          <a:xfrm>
            <a:off x="1870200" y="1049400"/>
            <a:ext cx="8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17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Diagramm 1" descr=""/>
          <p:cNvPicPr/>
          <p:nvPr/>
        </p:nvPicPr>
        <p:blipFill>
          <a:blip r:embed="rId1"/>
          <a:stretch/>
        </p:blipFill>
        <p:spPr>
          <a:xfrm>
            <a:off x="-2249640" y="847800"/>
            <a:ext cx="7255080" cy="472428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9440" y="101520"/>
            <a:ext cx="90345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Arial Black"/>
              </a:rPr>
              <a:t>Erklärung Kategorien und Beispielantworten</a:t>
            </a: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Textfeld 7"/>
          <p:cNvSpPr/>
          <p:nvPr/>
        </p:nvSpPr>
        <p:spPr>
          <a:xfrm>
            <a:off x="2517840" y="2673360"/>
            <a:ext cx="66261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Erklärung: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Bundeswehr hat kein gutes Ansehen in der Gesellschaft oder Person selbst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Textbeispiel(e): 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„BW hat einen schlechten Ruf in der Gesellschaft.“; „Zudem hört man nichts Gutes“;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„Mir wäre es peinlich mich in Uniform zu präsentieren wegen dem schlechten Ruf.“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„Ich habe ein negatives Bild von der BW“; „Bundeswehr gesellschaftlich und politisch nicht erwünscht“; „Zusätzlich hört man überall negative Sachen, unter anderem in den Medien.“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feld 10"/>
          <p:cNvSpPr/>
          <p:nvPr/>
        </p:nvSpPr>
        <p:spPr>
          <a:xfrm>
            <a:off x="2517840" y="4626000"/>
            <a:ext cx="66261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Erklärung: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das Umfeld (Freunde/Familie) hat negative Erfahrungen bei der BW gemacht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Textbeispiel(e): 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„ Ich kenne Soldaten und auch deren Erfahrungen. Das macht die Bundeswehr unattraktiv für mich.“; „ Außerdem kenne ich Exsoldaten und habe nur negatives von denen gehört.“;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„Familie war schon bei Bundeswehr (dadurch negativ) “; „ich kenne Leute, die waren freiwillig dort, sind aber nicht lange geblieben“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feld 4"/>
          <p:cNvSpPr/>
          <p:nvPr/>
        </p:nvSpPr>
        <p:spPr>
          <a:xfrm>
            <a:off x="2517840" y="1150920"/>
            <a:ext cx="8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Diagramm 1" descr=""/>
          <p:cNvPicPr/>
          <p:nvPr/>
        </p:nvPicPr>
        <p:blipFill>
          <a:blip r:embed="rId1"/>
          <a:stretch/>
        </p:blipFill>
        <p:spPr>
          <a:xfrm>
            <a:off x="-2249640" y="847800"/>
            <a:ext cx="7255080" cy="47307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9440" y="101520"/>
            <a:ext cx="90345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Arial Black"/>
              </a:rPr>
              <a:t>Erklärung Kategorien und Beispielantworten</a:t>
            </a: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7" name="Textfeld 7"/>
          <p:cNvSpPr/>
          <p:nvPr/>
        </p:nvSpPr>
        <p:spPr>
          <a:xfrm>
            <a:off x="2517840" y="2752560"/>
            <a:ext cx="66261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Erklärung: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Person bezeichnet sich als Pazifist/Pazifistin; nennt ethische Gründ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Textbeispiel(e): 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„Ich bin gegen Gewalt“; „Ich bin außerdem pazifistisch“; „Ich bin Pazifist und gegen Gewalt.“; „bezeichnet sich als absolute Pazifistin.“; „ethische Gründe“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feld 10"/>
          <p:cNvSpPr/>
          <p:nvPr/>
        </p:nvSpPr>
        <p:spPr>
          <a:xfrm>
            <a:off x="2470320" y="4441680"/>
            <a:ext cx="662616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Erklärung: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möchte grundsätzlich kein Soldat / Soldatin sein; allgemeiner negativer Eindruck von der BW als Arbeitgeber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Textbeispiel(e): 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„Die Bundeswehr ist ein Saftladen.“; „Wir wollen uns von der BW distanzieren.“  „Scheiß Arbeitgeber“; BW. an sich kommt nicht in Frage; „ich möchte kein Soldat sein“;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„hat nichts …damit am Hut…“; „die Idee von Bundeswehr an sich gefällt mir nicht“;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„es ist nichts für mich“; „Zur BW würde ich nicht gehen, selbst wenn ich arbeitslos wäre“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feld 3"/>
          <p:cNvSpPr/>
          <p:nvPr/>
        </p:nvSpPr>
        <p:spPr>
          <a:xfrm>
            <a:off x="2664000" y="1150920"/>
            <a:ext cx="8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7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Studienlage Personalgewinnung - Bundeswehr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Textfeld 3"/>
          <p:cNvSpPr/>
          <p:nvPr/>
        </p:nvSpPr>
        <p:spPr>
          <a:xfrm>
            <a:off x="2290680" y="3665520"/>
            <a:ext cx="17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BundesSans Regular"/>
              </a:rPr>
              <a:t>Jugendstudie 2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feld 4"/>
          <p:cNvSpPr/>
          <p:nvPr/>
        </p:nvSpPr>
        <p:spPr>
          <a:xfrm>
            <a:off x="2436840" y="1979640"/>
            <a:ext cx="204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BundesSans Regular"/>
              </a:rPr>
              <a:t>Bewerberstudie 2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feld 5"/>
          <p:cNvSpPr/>
          <p:nvPr/>
        </p:nvSpPr>
        <p:spPr>
          <a:xfrm>
            <a:off x="1601640" y="2711520"/>
            <a:ext cx="354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BundesSans Regular"/>
              </a:rPr>
              <a:t>Zusatzauswertung  Bevölkerungsbefragung 2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feld 6"/>
          <p:cNvSpPr/>
          <p:nvPr/>
        </p:nvSpPr>
        <p:spPr>
          <a:xfrm>
            <a:off x="1976400" y="5151600"/>
            <a:ext cx="273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BundesSans Regular"/>
              </a:rPr>
              <a:t>Bevölkerungsbefragung 2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lussdiagramm: Verbinder 7"/>
          <p:cNvSpPr/>
          <p:nvPr/>
        </p:nvSpPr>
        <p:spPr>
          <a:xfrm>
            <a:off x="3409920" y="1768320"/>
            <a:ext cx="144360" cy="14292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9768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feld 8"/>
          <p:cNvSpPr/>
          <p:nvPr/>
        </p:nvSpPr>
        <p:spPr>
          <a:xfrm>
            <a:off x="5935680" y="3090960"/>
            <a:ext cx="20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BundesSans Regular"/>
              </a:rPr>
              <a:t>Delphi 2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lussdiagramm: Verbinder 10"/>
          <p:cNvSpPr/>
          <p:nvPr/>
        </p:nvSpPr>
        <p:spPr>
          <a:xfrm>
            <a:off x="3008160" y="2552760"/>
            <a:ext cx="144720" cy="14436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9768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lussdiagramm: Verbinder 11"/>
          <p:cNvSpPr/>
          <p:nvPr/>
        </p:nvSpPr>
        <p:spPr>
          <a:xfrm>
            <a:off x="2998800" y="3538440"/>
            <a:ext cx="144360" cy="14292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9768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lussdiagramm: Verbinder 12"/>
          <p:cNvSpPr/>
          <p:nvPr/>
        </p:nvSpPr>
        <p:spPr>
          <a:xfrm>
            <a:off x="3554280" y="4272120"/>
            <a:ext cx="142920" cy="14256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9768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lussdiagramm: Verbinder 13"/>
          <p:cNvSpPr/>
          <p:nvPr/>
        </p:nvSpPr>
        <p:spPr>
          <a:xfrm>
            <a:off x="3146400" y="4973760"/>
            <a:ext cx="142920" cy="14436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9768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lussdiagramm: Verbinder 14"/>
          <p:cNvSpPr/>
          <p:nvPr/>
        </p:nvSpPr>
        <p:spPr>
          <a:xfrm>
            <a:off x="6315120" y="3706920"/>
            <a:ext cx="144360" cy="14436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9768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lussdiagramm: Verbinder 15"/>
          <p:cNvSpPr/>
          <p:nvPr/>
        </p:nvSpPr>
        <p:spPr>
          <a:xfrm>
            <a:off x="6426360" y="2943360"/>
            <a:ext cx="144360" cy="14436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9768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feld 16"/>
          <p:cNvSpPr/>
          <p:nvPr/>
        </p:nvSpPr>
        <p:spPr>
          <a:xfrm>
            <a:off x="2616120" y="447840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BundesSans Regular"/>
              </a:rPr>
              <a:t>Messebefragung 2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uppieren 8192"/>
          <p:cNvGrpSpPr/>
          <p:nvPr/>
        </p:nvGrpSpPr>
        <p:grpSpPr>
          <a:xfrm>
            <a:off x="550800" y="584280"/>
            <a:ext cx="8877240" cy="5707080"/>
            <a:chOff x="550800" y="584280"/>
            <a:chExt cx="8877240" cy="5707080"/>
          </a:xfrm>
        </p:grpSpPr>
        <p:sp>
          <p:nvSpPr>
            <p:cNvPr id="156" name="Ellipse 8203"/>
            <p:cNvSpPr/>
            <p:nvPr/>
          </p:nvSpPr>
          <p:spPr>
            <a:xfrm>
              <a:off x="550800" y="995400"/>
              <a:ext cx="7274160" cy="5295960"/>
            </a:xfrm>
            <a:prstGeom prst="ellipse">
              <a:avLst/>
            </a:prstGeom>
            <a:solidFill>
              <a:srgbClr val="4dadb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Ellipse 8204"/>
            <p:cNvSpPr/>
            <p:nvPr/>
          </p:nvSpPr>
          <p:spPr>
            <a:xfrm>
              <a:off x="1363320" y="1565280"/>
              <a:ext cx="3943440" cy="4092840"/>
            </a:xfrm>
            <a:prstGeom prst="ellipse">
              <a:avLst/>
            </a:prstGeom>
            <a:solidFill>
              <a:srgbClr val="cefaf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ihandform: Form 8205"/>
            <p:cNvSpPr/>
            <p:nvPr/>
          </p:nvSpPr>
          <p:spPr>
            <a:xfrm>
              <a:off x="5608440" y="584280"/>
              <a:ext cx="3819600" cy="1654200"/>
            </a:xfrm>
            <a:custGeom>
              <a:avLst/>
              <a:gdLst/>
              <a:ahLst/>
              <a:rect l="l" t="t" r="r" b="b"/>
              <a:pathLst>
                <a:path w="3820449" h="1654630">
                  <a:moveTo>
                    <a:pt x="0" y="0"/>
                  </a:moveTo>
                  <a:lnTo>
                    <a:pt x="3820449" y="0"/>
                  </a:lnTo>
                  <a:lnTo>
                    <a:pt x="3820449" y="1654630"/>
                  </a:lnTo>
                  <a:lnTo>
                    <a:pt x="0" y="165463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2240" rIns="82440" tIns="82440" bIns="8244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Gerader Verbinder 8206"/>
            <p:cNvSpPr/>
            <p:nvPr/>
          </p:nvSpPr>
          <p:spPr>
            <a:xfrm flipH="1" flipV="1">
              <a:off x="6597720" y="1422360"/>
              <a:ext cx="102960" cy="72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ihandform: Form 8208"/>
            <p:cNvSpPr/>
            <p:nvPr/>
          </p:nvSpPr>
          <p:spPr>
            <a:xfrm>
              <a:off x="5894280" y="3905280"/>
              <a:ext cx="3247920" cy="622080"/>
            </a:xfrm>
            <a:custGeom>
              <a:avLst/>
              <a:gdLst/>
              <a:ahLst/>
              <a:rect l="l" t="t" r="r" b="b"/>
              <a:pathLst>
                <a:path w="3247914" h="622670">
                  <a:moveTo>
                    <a:pt x="0" y="0"/>
                  </a:moveTo>
                  <a:lnTo>
                    <a:pt x="3247914" y="0"/>
                  </a:lnTo>
                  <a:lnTo>
                    <a:pt x="3247914" y="622670"/>
                  </a:lnTo>
                  <a:lnTo>
                    <a:pt x="0" y="6226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7200" rIns="49320" tIns="49320" bIns="4932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feld 18"/>
          <p:cNvSpPr/>
          <p:nvPr/>
        </p:nvSpPr>
        <p:spPr>
          <a:xfrm>
            <a:off x="1973160" y="3436920"/>
            <a:ext cx="177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BundesSans Regular"/>
              </a:rPr>
              <a:t>Jugendstudie (22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feld 19"/>
          <p:cNvSpPr/>
          <p:nvPr/>
        </p:nvSpPr>
        <p:spPr>
          <a:xfrm>
            <a:off x="2394000" y="1838160"/>
            <a:ext cx="204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BundesSans Regular"/>
              </a:rPr>
              <a:t>Bewerberstudie (22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feld 20"/>
          <p:cNvSpPr/>
          <p:nvPr/>
        </p:nvSpPr>
        <p:spPr>
          <a:xfrm>
            <a:off x="1573200" y="2540160"/>
            <a:ext cx="354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BundesSans Regular"/>
              </a:rPr>
              <a:t>Zusatzauswertung  Bevölkerungsbefragung (22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feld 21"/>
          <p:cNvSpPr/>
          <p:nvPr/>
        </p:nvSpPr>
        <p:spPr>
          <a:xfrm>
            <a:off x="1503360" y="423396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BundesSans Regular"/>
              </a:rPr>
              <a:t>Bevölkerungsbefragung (23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lussdiagramm: Verbinder 22"/>
          <p:cNvSpPr/>
          <p:nvPr/>
        </p:nvSpPr>
        <p:spPr>
          <a:xfrm>
            <a:off x="3335400" y="1623960"/>
            <a:ext cx="142920" cy="14436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9768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feld 23"/>
          <p:cNvSpPr/>
          <p:nvPr/>
        </p:nvSpPr>
        <p:spPr>
          <a:xfrm>
            <a:off x="5024520" y="4707000"/>
            <a:ext cx="187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BundesSans Regular"/>
              </a:rPr>
              <a:t>Zweiter Experten-Workshop (24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feld 24"/>
          <p:cNvSpPr/>
          <p:nvPr/>
        </p:nvSpPr>
        <p:spPr>
          <a:xfrm>
            <a:off x="5105520" y="2359080"/>
            <a:ext cx="212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BundesSans Regular"/>
              </a:rPr>
              <a:t>Ergänzungsstudie (24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lussdiagramm: Verbinder 25"/>
          <p:cNvSpPr/>
          <p:nvPr/>
        </p:nvSpPr>
        <p:spPr>
          <a:xfrm>
            <a:off x="2754360" y="2417760"/>
            <a:ext cx="144360" cy="14436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9768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lussdiagramm: Verbinder 26"/>
          <p:cNvSpPr/>
          <p:nvPr/>
        </p:nvSpPr>
        <p:spPr>
          <a:xfrm>
            <a:off x="2681280" y="3308400"/>
            <a:ext cx="142920" cy="14436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9768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lussdiagramm: Verbinder 27"/>
          <p:cNvSpPr/>
          <p:nvPr/>
        </p:nvSpPr>
        <p:spPr>
          <a:xfrm>
            <a:off x="3930480" y="3603600"/>
            <a:ext cx="144720" cy="14292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9768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lussdiagramm: Verbinder 28"/>
          <p:cNvSpPr/>
          <p:nvPr/>
        </p:nvSpPr>
        <p:spPr>
          <a:xfrm>
            <a:off x="1996920" y="4094280"/>
            <a:ext cx="144720" cy="14436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9768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lussdiagramm: Verbinder 29"/>
          <p:cNvSpPr/>
          <p:nvPr/>
        </p:nvSpPr>
        <p:spPr>
          <a:xfrm>
            <a:off x="5823000" y="2268360"/>
            <a:ext cx="144360" cy="14472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9768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lussdiagramm: Verbinder 30"/>
          <p:cNvSpPr/>
          <p:nvPr/>
        </p:nvSpPr>
        <p:spPr>
          <a:xfrm>
            <a:off x="5791320" y="4562640"/>
            <a:ext cx="144360" cy="14436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9768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feld 8191"/>
          <p:cNvSpPr/>
          <p:nvPr/>
        </p:nvSpPr>
        <p:spPr>
          <a:xfrm>
            <a:off x="2862360" y="3817800"/>
            <a:ext cx="203832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BundesSans Regular"/>
              </a:rPr>
              <a:t>Messebefragung (23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feld 8191"/>
          <p:cNvSpPr/>
          <p:nvPr/>
        </p:nvSpPr>
        <p:spPr>
          <a:xfrm>
            <a:off x="1924200" y="4884840"/>
            <a:ext cx="31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BundesSans Regular"/>
              </a:rPr>
              <a:t>Erster Experten-Workshop (23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lussdiagramm: Verbinder 36"/>
          <p:cNvSpPr/>
          <p:nvPr/>
        </p:nvSpPr>
        <p:spPr>
          <a:xfrm>
            <a:off x="3081240" y="4778280"/>
            <a:ext cx="142920" cy="14472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9768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feld 24"/>
          <p:cNvSpPr/>
          <p:nvPr/>
        </p:nvSpPr>
        <p:spPr>
          <a:xfrm>
            <a:off x="5364000" y="3008160"/>
            <a:ext cx="2616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BundesSans Regular"/>
              </a:rPr>
              <a:t>Studierendenbefragung Universitäten der Bw (23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feld 24"/>
          <p:cNvSpPr/>
          <p:nvPr/>
        </p:nvSpPr>
        <p:spPr>
          <a:xfrm>
            <a:off x="5342040" y="3878280"/>
            <a:ext cx="237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BundesSans Regular"/>
              </a:rPr>
              <a:t>Mehr Frauen in militär. Funktionen (24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lussdiagramm: Verbinder 45"/>
          <p:cNvSpPr/>
          <p:nvPr/>
        </p:nvSpPr>
        <p:spPr>
          <a:xfrm>
            <a:off x="6145200" y="3754440"/>
            <a:ext cx="144360" cy="14436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9768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lussdiagramm: Verbinder 46"/>
          <p:cNvSpPr/>
          <p:nvPr/>
        </p:nvSpPr>
        <p:spPr>
          <a:xfrm>
            <a:off x="6134040" y="2903400"/>
            <a:ext cx="144360" cy="14472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9768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Diagramm 1" descr=""/>
          <p:cNvPicPr/>
          <p:nvPr/>
        </p:nvPicPr>
        <p:blipFill>
          <a:blip r:embed="rId1"/>
          <a:stretch/>
        </p:blipFill>
        <p:spPr>
          <a:xfrm>
            <a:off x="-2249640" y="847800"/>
            <a:ext cx="7255080" cy="47307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9440" y="101520"/>
            <a:ext cx="90345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Arial Black"/>
              </a:rPr>
              <a:t>Erklärung Kategorien und Beispielantworten</a:t>
            </a: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2" name="Textfeld 7"/>
          <p:cNvSpPr/>
          <p:nvPr/>
        </p:nvSpPr>
        <p:spPr>
          <a:xfrm>
            <a:off x="2517840" y="2576520"/>
            <a:ext cx="662616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Erklärung: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nach eigenem Empfinden gesundheitlich / körperlich nicht geeignet für militärischen Teil der BW; medizinische Problem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Textbeispiel(e): 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„würde Fitness-Test nach eigener Aussage nicht bestehen“; „gesundheitlich / körperliche Eignung nicht vorhanden“; „wurde ausgemustert, gesundheitliche Probleme“; „Problem mit Sehstärke“; „Ich habe Diabetes, das ist nicht mit der Bundeswehr vereinbar“;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„chronisch krank“; „Hat Asthma“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feld 10"/>
          <p:cNvSpPr/>
          <p:nvPr/>
        </p:nvSpPr>
        <p:spPr>
          <a:xfrm>
            <a:off x="2517840" y="4691160"/>
            <a:ext cx="66261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Erklärung: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formal nicht geeignet für militärischen Teil der BW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Textbeispiel(e): 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„kein deutscher Pass“; „Wurde abgelehnt“; „Körpergröße“;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„geht das überhaupt als Ausländer?“; „ich bin Türke“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feld 4"/>
          <p:cNvSpPr/>
          <p:nvPr/>
        </p:nvSpPr>
        <p:spPr>
          <a:xfrm>
            <a:off x="2593800" y="1149480"/>
            <a:ext cx="8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9440" y="101520"/>
            <a:ext cx="90345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Arial Black"/>
              </a:rPr>
              <a:t>Rangfolge Nennungen Subkategorien</a:t>
            </a: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09440" y="760320"/>
          <a:ext cx="4216320" cy="5359320"/>
        </p:xfrm>
        <a:graphic>
          <a:graphicData uri="http://schemas.openxmlformats.org/drawingml/2006/table">
            <a:tbl>
              <a:tblPr/>
              <a:tblGrid>
                <a:gridCol w="395280"/>
                <a:gridCol w="2789280"/>
                <a:gridCol w="1031760"/>
              </a:tblGrid>
              <a:tr h="3711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902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kategori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902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zah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902c"/>
                    </a:solidFill>
                  </a:tcPr>
                </a:tc>
              </a:tr>
              <a:tr h="36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uelle berufl. Situ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elle Ablehnung / Desinteress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</a:tr>
              <a:tr h="3711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ufsfelder unpassen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</a:tr>
              <a:tr h="370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ag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</a:tr>
              <a:tr h="36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e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</a:tr>
              <a:tr h="3711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pflichtungszeit zu la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</a:tr>
              <a:tr h="3693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hlende Inform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</a:tr>
              <a:tr h="3711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imatnäh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sationsstrukturen / Führ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</a:tr>
              <a:tr h="3711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setzung zu häufi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</a:tr>
              <a:tr h="36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ahlung zu niedri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</a:tr>
              <a:tr h="3690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undhei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4722840" y="760320"/>
          <a:ext cx="4216320" cy="4988160"/>
        </p:xfrm>
        <a:graphic>
          <a:graphicData uri="http://schemas.openxmlformats.org/drawingml/2006/table">
            <a:tbl>
              <a:tblPr/>
              <a:tblGrid>
                <a:gridCol w="523800"/>
                <a:gridCol w="2660760"/>
                <a:gridCol w="103176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902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kategori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902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zah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902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landseinsätze / Gefah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 Erwäg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ili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rperliche Belast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zifismu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rüstung / Budge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tern/Familie dageg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fahrungen Umfel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le Hinderniss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beitszeit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ychische Belastung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9440" y="101520"/>
            <a:ext cx="90345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Chi-Quadrat-Unabhängigkeitstest zur Überprüfung der Signifikanz von Unterschiede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557280" y="3552840"/>
          <a:ext cx="6324480" cy="1714320"/>
        </p:xfrm>
        <a:graphic>
          <a:graphicData uri="http://schemas.openxmlformats.org/drawingml/2006/table">
            <a:tbl>
              <a:tblPr/>
              <a:tblGrid>
                <a:gridCol w="2670120"/>
                <a:gridCol w="905040"/>
                <a:gridCol w="877680"/>
                <a:gridCol w="1871640"/>
              </a:tblGrid>
              <a:tr h="552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bd7e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J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ei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ilensumm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</a:tr>
              <a:tr h="4330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ufsorientierungsmess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bd7e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,4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,5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</a:tr>
              <a:tr h="4352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liche Veranstaltung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bd7e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,5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,4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</a:tr>
              <a:tr h="2934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altensumm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bd7e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= 52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</a:tr>
            </a:tbl>
          </a:graphicData>
        </a:graphic>
      </p:graphicFrame>
      <p:sp>
        <p:nvSpPr>
          <p:cNvPr id="270" name="Textfeld 4"/>
          <p:cNvSpPr/>
          <p:nvPr/>
        </p:nvSpPr>
        <p:spPr>
          <a:xfrm>
            <a:off x="557280" y="722160"/>
            <a:ext cx="138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obacht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feld 5"/>
          <p:cNvSpPr/>
          <p:nvPr/>
        </p:nvSpPr>
        <p:spPr>
          <a:xfrm>
            <a:off x="557280" y="3213000"/>
            <a:ext cx="138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rwart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feld 6"/>
          <p:cNvSpPr/>
          <p:nvPr/>
        </p:nvSpPr>
        <p:spPr>
          <a:xfrm>
            <a:off x="7121520" y="492912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= 0,000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557280" y="1055520"/>
          <a:ext cx="6324480" cy="1714680"/>
        </p:xfrm>
        <a:graphic>
          <a:graphicData uri="http://schemas.openxmlformats.org/drawingml/2006/table">
            <a:tbl>
              <a:tblPr/>
              <a:tblGrid>
                <a:gridCol w="2670120"/>
                <a:gridCol w="905040"/>
                <a:gridCol w="877680"/>
                <a:gridCol w="1871640"/>
              </a:tblGrid>
              <a:tr h="551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bd7e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J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ei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ilensumm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</a:tr>
              <a:tr h="4348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ufsorientierungsmess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bd7e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</a:tr>
              <a:tr h="4334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liche Veranstaltung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bd7e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</a:tr>
              <a:tr h="2952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altensumm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bd7e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= 52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</a:tr>
            </a:tbl>
          </a:graphicData>
        </a:graphic>
      </p:graphicFrame>
      <p:sp>
        <p:nvSpPr>
          <p:cNvPr id="274" name="Textfeld 5"/>
          <p:cNvSpPr/>
          <p:nvPr/>
        </p:nvSpPr>
        <p:spPr>
          <a:xfrm>
            <a:off x="6972480" y="2387520"/>
            <a:ext cx="184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 = Summe Kodiereinheite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9440" y="101520"/>
            <a:ext cx="90345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Signifikante Unterschiede zwischen Berufsorientierungs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messen und restlichen Veranstaltungen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82520" y="1179360"/>
          <a:ext cx="8778960" cy="4246560"/>
        </p:xfrm>
        <a:graphic>
          <a:graphicData uri="http://schemas.openxmlformats.org/drawingml/2006/table">
            <a:tbl>
              <a:tblPr/>
              <a:tblGrid>
                <a:gridCol w="3070440"/>
                <a:gridCol w="2233440"/>
                <a:gridCol w="1963800"/>
                <a:gridCol w="151128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902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rufsorientie-rungsmessen</a:t>
                      </a:r>
                      <a:br>
                        <a:rPr sz="1800"/>
                      </a:b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zentuale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äufigkeiten 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diereinheiten =12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902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tliche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anstaltung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zentuale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äufigkeiten 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diereinheiten=40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902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istische Signifikanz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902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ltersdurchschnit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,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4,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</a:tr>
              <a:tr h="293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landseinsätze / Gefah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1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0,0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</a:tr>
              <a:tr h="293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imatnäh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&lt;0,01**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</a:tr>
              <a:tr h="293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uelle berufliche Situ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6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&lt;0,001***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</a:tr>
              <a:tr h="293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tern / Familie dageg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7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&lt;0,01**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</a:tr>
              <a:tr h="293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 Erwäg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&lt;0,05*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</a:tr>
              <a:tr h="293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undhei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&lt;0,05*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</a:tr>
              <a:tr h="293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le Hinderniss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1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&lt;0,05*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9440" y="101520"/>
            <a:ext cx="90345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Geschlechtsspezifische</a:t>
            </a:r>
            <a:r>
              <a:rPr b="0" lang="de-DE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Unterschie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82520" y="1179360"/>
          <a:ext cx="8778960" cy="3195720"/>
        </p:xfrm>
        <a:graphic>
          <a:graphicData uri="http://schemas.openxmlformats.org/drawingml/2006/table">
            <a:tbl>
              <a:tblPr/>
              <a:tblGrid>
                <a:gridCol w="2754360"/>
                <a:gridCol w="2292480"/>
                <a:gridCol w="2220840"/>
                <a:gridCol w="1511280"/>
              </a:tblGrid>
              <a:tr h="134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902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uen </a:t>
                      </a:r>
                      <a:br>
                        <a:rPr sz="1800"/>
                      </a:b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zentuale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äufigkeiten </a:t>
                      </a:r>
                      <a:br>
                        <a:rPr sz="1600"/>
                      </a:b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diereinheiten=20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902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änner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zentuale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äufigkeiten </a:t>
                      </a:r>
                      <a:br>
                        <a:rPr sz="1600"/>
                      </a:b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diereinheiten=31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902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istische Signifikanz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902c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Altersdurchschnit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3,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2,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uelle berufl. Situ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1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,4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=&lt;0,05*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tern / Familie dageg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9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=&lt;0,05*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zifismu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3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6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=0,0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rufsfelder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6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1 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=0,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9440" y="101520"/>
            <a:ext cx="90345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</a:rPr>
              <a:t>Einordnung der Gründe in den Bewerbungsprozes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Textfeld 2"/>
          <p:cNvSpPr/>
          <p:nvPr/>
        </p:nvSpPr>
        <p:spPr>
          <a:xfrm>
            <a:off x="204840" y="792000"/>
            <a:ext cx="8734320" cy="46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werbungsprozess aus Sicht der Zielgrupp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rientierungsphase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(Informieren, sich inspirieren lassen, Vorauswahl …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undeswehr gar nicht als Arbeitgeber in Erwägung gezoge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e passenden Berufsfelde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hlende Informatione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werb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(aktive Suche, Sammeln von Fakten und Informationen, gezielte Vorbereitung und Auswahl, Organisation und Menschen kennenlernen…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lastungen / Berufsrisik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rganisationsstruktur / Führ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scheid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(Abwägen der Faktoren, Unternehmen besser kennenlernen, Nach-Recherche, Rückversicherung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hmenbedingungen (z.B. Bezahlung und Arbeitszeiten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ndortpolitik (Versetzungen, Fehlen heimatnaher Dienststellen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9440" y="101520"/>
            <a:ext cx="90345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Arial Black"/>
              </a:rPr>
              <a:t>Weitere relevante Forschungsfragen</a:t>
            </a: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2" name="Textfeld 2"/>
          <p:cNvSpPr/>
          <p:nvPr/>
        </p:nvSpPr>
        <p:spPr>
          <a:xfrm>
            <a:off x="204840" y="1009800"/>
            <a:ext cx="873432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Untersuchung spezieller Zielgrupp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u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ersonen mit Migrationshintergru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ergleich mit anderen Organisation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olize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Untersuchung von Maßnahmen der EU-/Nato-Staaten zur Gewinnung von Frauen für den militärischen Dien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154080"/>
            <a:ext cx="91440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Black"/>
              </a:rPr>
              <a:t>Fragen?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84" name="Grafik 4" descr="Mehrere erhobene Hände und bereit, eine Frage zu beantworten"/>
          <p:cNvPicPr/>
          <p:nvPr/>
        </p:nvPicPr>
        <p:blipFill>
          <a:blip r:embed="rId1"/>
          <a:stretch/>
        </p:blipFill>
        <p:spPr>
          <a:xfrm>
            <a:off x="457200" y="955800"/>
            <a:ext cx="7823160" cy="5222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hteck 12"/>
          <p:cNvSpPr/>
          <p:nvPr/>
        </p:nvSpPr>
        <p:spPr>
          <a:xfrm>
            <a:off x="109440" y="920880"/>
            <a:ext cx="2365560" cy="4881600"/>
          </a:xfrm>
          <a:prstGeom prst="rect">
            <a:avLst/>
          </a:prstGeom>
          <a:solidFill>
            <a:srgbClr val="dddddd"/>
          </a:solidFill>
          <a:ln w="12600">
            <a:solidFill>
              <a:srgbClr val="273c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 Black"/>
              </a:rPr>
              <a:t>Messebefragung 23: Projektbeteiligt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feil: Fünfeck 1"/>
          <p:cNvSpPr/>
          <p:nvPr/>
        </p:nvSpPr>
        <p:spPr>
          <a:xfrm>
            <a:off x="206280" y="1238400"/>
            <a:ext cx="3044880" cy="596880"/>
          </a:xfrm>
          <a:custGeom>
            <a:avLst/>
            <a:gdLst>
              <a:gd name="textAreaLeft" fmla="*/ 0 w 3044880"/>
              <a:gd name="textAreaRight" fmla="*/ 3045240 w 30448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79" y="0"/>
                </a:lnTo>
                <a:lnTo>
                  <a:pt x="21600" y="10800"/>
                </a:lnTo>
                <a:lnTo>
                  <a:pt x="194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273c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auftrag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feil: Fünfeck 2"/>
          <p:cNvSpPr/>
          <p:nvPr/>
        </p:nvSpPr>
        <p:spPr>
          <a:xfrm>
            <a:off x="206280" y="2433600"/>
            <a:ext cx="3044880" cy="598680"/>
          </a:xfrm>
          <a:custGeom>
            <a:avLst/>
            <a:gdLst>
              <a:gd name="textAreaLeft" fmla="*/ 0 w 3044880"/>
              <a:gd name="textAreaRight" fmla="*/ 3045240 w 3044880"/>
              <a:gd name="textAreaTop" fmla="*/ 0 h 598680"/>
              <a:gd name="textAreaBottom" fmla="*/ 599040 h 59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79" y="0"/>
                </a:lnTo>
                <a:lnTo>
                  <a:pt x="21600" y="10800"/>
                </a:lnTo>
                <a:lnTo>
                  <a:pt x="194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273c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udienleitung Mannhei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feil: Fünfeck 3"/>
          <p:cNvSpPr/>
          <p:nvPr/>
        </p:nvSpPr>
        <p:spPr>
          <a:xfrm>
            <a:off x="206280" y="3629160"/>
            <a:ext cx="3044880" cy="598320"/>
          </a:xfrm>
          <a:custGeom>
            <a:avLst/>
            <a:gdLst>
              <a:gd name="textAreaLeft" fmla="*/ 0 w 3044880"/>
              <a:gd name="textAreaRight" fmla="*/ 3045240 w 3044880"/>
              <a:gd name="textAreaTop" fmla="*/ 0 h 598320"/>
              <a:gd name="textAreaBottom" fmla="*/ 598320 h 59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79" y="0"/>
                </a:lnTo>
                <a:lnTo>
                  <a:pt x="21600" y="10800"/>
                </a:lnTo>
                <a:lnTo>
                  <a:pt x="194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273c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udierende im Rahmen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hrer Bachelorthes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feil: Fünfeck 4"/>
          <p:cNvSpPr/>
          <p:nvPr/>
        </p:nvSpPr>
        <p:spPr>
          <a:xfrm>
            <a:off x="206280" y="4826160"/>
            <a:ext cx="3044880" cy="596880"/>
          </a:xfrm>
          <a:custGeom>
            <a:avLst/>
            <a:gdLst>
              <a:gd name="textAreaLeft" fmla="*/ 0 w 3044880"/>
              <a:gd name="textAreaRight" fmla="*/ 3045240 w 304488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79" y="0"/>
                </a:lnTo>
                <a:lnTo>
                  <a:pt x="21600" y="10800"/>
                </a:lnTo>
                <a:lnTo>
                  <a:pt x="194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273c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urchführung der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fragung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180680" y="1071000"/>
            <a:ext cx="20797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  <a:ea typeface="Calibri"/>
              </a:rPr>
              <a:t>Dr. Norbert Staudacher 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Calibri"/>
                <a:ea typeface="Calibri"/>
              </a:rPr>
              <a:t>Oberst i.G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  <a:ea typeface="Calibri"/>
              </a:rPr>
              <a:t>stv. Referatsleiter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Calibri"/>
                <a:ea typeface="Calibri"/>
              </a:rPr>
              <a:t>BMVg P I 4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Calibri"/>
                <a:ea typeface="Calibri"/>
              </a:rPr>
              <a:t>E-Mail: BMVgPI4@bmvg.bund.d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4169160" y="2266560"/>
            <a:ext cx="359460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  <a:ea typeface="Calibri"/>
              </a:rPr>
              <a:t>Prof. Dr. Ute Schäffer-Külz 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Calibri"/>
                <a:ea typeface="Calibri"/>
              </a:rPr>
              <a:t>Professorin für Psychologie und Soziologi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  <a:ea typeface="Calibri"/>
              </a:rPr>
              <a:t>Hochschule des Bundes, Bundeswehrverwaltung Mannheim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Calibri"/>
                <a:ea typeface="Calibri"/>
              </a:rPr>
              <a:t>Leiterin Kompetenzbereich Personalpsychologie MIP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Calibri"/>
                <a:ea typeface="Calibri"/>
              </a:rPr>
              <a:t>E-Mail: ute.schaeffer-Kuelz@hsbund-fbbwv.d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4183560" y="3574440"/>
            <a:ext cx="359460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  <a:ea typeface="Calibri"/>
              </a:rPr>
              <a:t>Herr Aleksej Angilopow</a:t>
            </a:r>
            <a:br>
              <a:rPr sz="1100"/>
            </a:br>
            <a:r>
              <a:rPr b="1" lang="en-GB" sz="1100" spc="-1" strike="noStrike">
                <a:solidFill>
                  <a:srgbClr val="000000"/>
                </a:solidFill>
                <a:latin typeface="Calibri"/>
                <a:ea typeface="Calibri"/>
              </a:rPr>
              <a:t>Frau </a:t>
            </a:r>
            <a:r>
              <a:rPr b="1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Katharina Sann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  <a:ea typeface="Calibri"/>
              </a:rPr>
              <a:t>Studierende 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Calibri"/>
                <a:ea typeface="Calibri"/>
              </a:rPr>
              <a:t>Hochschule des Bundes, Bundeswehrverwaltung Mannheim</a:t>
            </a:r>
            <a:br>
              <a:rPr sz="1100"/>
            </a:b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4173480" y="4581720"/>
            <a:ext cx="45244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alibri"/>
                <a:ea typeface="Calibri"/>
              </a:rPr>
              <a:t>Aleksey Angilopow, Kim Bauer, Pia Betschke, Nadine Ehresmann , </a:t>
            </a:r>
            <a:br>
              <a:rPr sz="1100"/>
            </a:br>
            <a:r>
              <a:rPr b="1" lang="en-GB" sz="1100" spc="-1" strike="noStrike">
                <a:solidFill>
                  <a:srgbClr val="000000"/>
                </a:solidFill>
                <a:latin typeface="Calibri"/>
                <a:ea typeface="Calibri"/>
              </a:rPr>
              <a:t>Silvia Hammes, Lilly Heß, Stefanie Kloppenburg, Tugce Köse,</a:t>
            </a:r>
            <a:br>
              <a:rPr sz="1100"/>
            </a:br>
            <a:r>
              <a:rPr b="1" lang="en-GB" sz="1100" spc="-1" strike="noStrike">
                <a:solidFill>
                  <a:srgbClr val="000000"/>
                </a:solidFill>
                <a:latin typeface="Calibri"/>
                <a:ea typeface="Calibri"/>
              </a:rPr>
              <a:t>Michelle Lenk, Annika Lingk, Kelly Manusco, Leon-Fabio Matzko, </a:t>
            </a:r>
            <a:br>
              <a:rPr sz="1100"/>
            </a:br>
            <a:r>
              <a:rPr b="1" lang="en-GB" sz="1100" spc="-1" strike="noStrike">
                <a:solidFill>
                  <a:srgbClr val="000000"/>
                </a:solidFill>
                <a:latin typeface="Calibri"/>
                <a:ea typeface="Calibri"/>
              </a:rPr>
              <a:t>Rico Reißig,  Ute Schäffer-Külz, Lena Seyler, Siiri Reichelt, Katharina Sanne, Arnika Schmidt, Alina Werner, Isabel Westerwald, Lea Wortmann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  <a:ea typeface="Calibri"/>
              </a:rPr>
              <a:t>Studierende / wiss. Mitarbeitende 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Calibri"/>
                <a:ea typeface="Calibri"/>
              </a:rPr>
              <a:t>Hochschule des Bundes, Bundeswehrverwaltung Mannheim</a:t>
            </a:r>
            <a:br>
              <a:rPr sz="1100"/>
            </a:b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74520" y="191880"/>
            <a:ext cx="9293040" cy="4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Forschungsfrag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304920" y="944640"/>
            <a:ext cx="8532720" cy="48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Hauptforschungsfrag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9933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s welchen Gründen lehnen Personen (Messebesuchende) die Bundeswehr als Arbeitgeber ab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Abgeleitete Forschungsfragen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9933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e könnte die Bundeswehr ihre Attraktivität als Arbeitgeber erhöhen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33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74520" y="191880"/>
            <a:ext cx="9293040" cy="4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Untersuchungsdesig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94" name="Diagramm 5" descr=""/>
          <p:cNvPicPr/>
          <p:nvPr/>
        </p:nvPicPr>
        <p:blipFill>
          <a:blip r:embed="rId1"/>
          <a:stretch/>
        </p:blipFill>
        <p:spPr>
          <a:xfrm>
            <a:off x="103320" y="695160"/>
            <a:ext cx="8662680" cy="5681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Black"/>
              </a:rPr>
              <a:t>Interviewleitfaden</a:t>
            </a: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Rechteck 12"/>
          <p:cNvSpPr/>
          <p:nvPr/>
        </p:nvSpPr>
        <p:spPr>
          <a:xfrm>
            <a:off x="527040" y="746280"/>
            <a:ext cx="836280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. Begrüßung; Dann „Wir sind von der Hochschule Mannheim und führen im Rahmen eines Hochschulprojektes eine kurze Befragung im Kontext von Abschlussarbeiten durch. Dürfen wir Ihnen einige Fragen stellen?“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2. „Warum sind Sie heute auf dem Maimarkt? Was versprechen Sie sich von der Messe?“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3. „Ich habe gesehen, dass Sie am Stand der Bundeswehr vorbeigegangen sind. Warum waren Sie nicht dort?“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Evtl. nachhaken: „Könnten Sie das noch etwas genauer erklären?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0000"/>
                </a:solidFill>
                <a:latin typeface="Arial"/>
              </a:rPr>
              <a:t>4. „Käme die Bundeswehr als Arbeitgeber für Sie in Frage?“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0000"/>
                </a:solidFill>
                <a:latin typeface="Arial"/>
              </a:rPr>
              <a:t>5. „Warum nicht?“</a:t>
            </a:r>
            <a:r>
              <a:rPr b="1" lang="de-DE" sz="1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„Warum?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6. „Gilt das auch für zivile Berufe der Bundeswehr?“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0000"/>
                </a:solidFill>
                <a:latin typeface="Arial"/>
              </a:rPr>
              <a:t>7. „Was müsste die Bundeswehr Ihrer Meinung nach tun, um Sie davon zu überzeugen, dass sie ein Arbeitgeber erster Wahl ist?“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8. „Was waren Ihre Eindrücke? Was haben Sie mitnehmen können?“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9. „Darf ich Sie noch nach Ihrem Alter fragen?  _______________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Als Geschlecht trage ich männlich / weiblich ein?“ Männlich    Weiblich     Diver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Dank + Verabschiedung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4240" y="154080"/>
            <a:ext cx="85327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Black"/>
              </a:rPr>
              <a:t>Messen und Befragungszah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53960" y="744480"/>
          <a:ext cx="8353440" cy="5859360"/>
        </p:xfrm>
        <a:graphic>
          <a:graphicData uri="http://schemas.openxmlformats.org/drawingml/2006/table">
            <a:tbl>
              <a:tblPr/>
              <a:tblGrid>
                <a:gridCol w="449280"/>
                <a:gridCol w="2874960"/>
                <a:gridCol w="2049480"/>
                <a:gridCol w="29797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902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ss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902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u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902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zahl Befragung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902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imarkt Mannhei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mehrere Teams an 6 Tagen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9.4. - 9.5.202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samt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</a:t>
                      </a:r>
                      <a:r>
                        <a:rPr b="1" lang="de-DE" sz="1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21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5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30; </a:t>
                      </a:r>
                      <a:r>
                        <a:rPr b="1" i="1" lang="de-DE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5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; </a:t>
                      </a:r>
                      <a:r>
                        <a:rPr b="1" i="1" lang="de-DE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.5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25; </a:t>
                      </a:r>
                      <a:r>
                        <a:rPr b="1" i="1" lang="de-DE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.5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36; </a:t>
                      </a:r>
                      <a:r>
                        <a:rPr b="1" i="1" lang="de-DE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.5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30; </a:t>
                      </a:r>
                      <a:r>
                        <a:rPr b="1" i="1" lang="de-DE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.5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15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chlossgrabenfest Darmstad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.5. – 28.5. 202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samt: </a:t>
                      </a:r>
                      <a:r>
                        <a:rPr b="1" lang="de-DE" sz="1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8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.5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30; </a:t>
                      </a:r>
                      <a:r>
                        <a:rPr b="1" i="1" lang="de-DE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8.5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</a:tr>
              <a:tr h="609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essentag Pfungstad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6. - 11.6. 202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samt: </a:t>
                      </a:r>
                      <a:r>
                        <a:rPr b="1" lang="de-DE" sz="1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.6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</a:tr>
              <a:tr h="609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chsenring Moto GP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6. - 18.6. 202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samt: </a:t>
                      </a:r>
                      <a:r>
                        <a:rPr b="1" lang="de-DE" sz="1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5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.6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</a:t>
                      </a:r>
                      <a:r>
                        <a:rPr b="1" i="1" lang="de-DE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; 17.6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22; 18</a:t>
                      </a:r>
                      <a:r>
                        <a:rPr b="1" i="1" lang="de-DE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.6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ocatium, Trier</a:t>
                      </a:r>
                      <a:br>
                        <a:rPr sz="1800"/>
                      </a:b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Fachmesse für </a:t>
                      </a:r>
                      <a:br>
                        <a:rPr sz="1800"/>
                      </a:b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usbildung + Studium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.7 -13.7.202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samt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</a:t>
                      </a:r>
                      <a:r>
                        <a:rPr b="1" lang="de-DE" sz="1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24</a:t>
                      </a:r>
                      <a:br>
                        <a:rPr sz="1800"/>
                      </a:b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.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mescom, Köl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.8 -27.8.2023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samt: </a:t>
                      </a:r>
                      <a:r>
                        <a:rPr b="1" lang="de-DE" sz="1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0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.8; 25.8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; 26.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</a:tr>
              <a:tr h="609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prungbrett, Ludwigshaf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2.9 - 23. 9.202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samt: </a:t>
                      </a:r>
                      <a:r>
                        <a:rPr b="1" lang="de-DE" sz="1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9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2.9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7</a:t>
                      </a:r>
                      <a:r>
                        <a:rPr b="1" i="1" lang="de-DE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; 23.9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bcd"/>
                    </a:solidFill>
                  </a:tcPr>
                </a:tc>
              </a:tr>
              <a:tr h="49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58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ee8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9440" y="101520"/>
            <a:ext cx="90345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Arial Black"/>
              </a:rPr>
              <a:t>Soziodemographische Daten</a:t>
            </a: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00" name="Grafik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440" y="101520"/>
            <a:ext cx="90345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Arial Black"/>
              </a:rPr>
              <a:t>Soziodemographische Daten</a:t>
            </a:r>
            <a:endParaRPr b="0" lang="en-US" sz="27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02" name="Diagramm 1" descr=""/>
          <p:cNvPicPr/>
          <p:nvPr/>
        </p:nvPicPr>
        <p:blipFill>
          <a:blip r:embed="rId1"/>
          <a:stretch/>
        </p:blipFill>
        <p:spPr>
          <a:xfrm>
            <a:off x="378000" y="828720"/>
            <a:ext cx="5608440" cy="2298600"/>
          </a:xfrm>
          <a:prstGeom prst="rect">
            <a:avLst/>
          </a:prstGeom>
          <a:ln w="0">
            <a:noFill/>
          </a:ln>
        </p:spPr>
      </p:pic>
      <p:pic>
        <p:nvPicPr>
          <p:cNvPr id="203" name="Diagramm 2" descr=""/>
          <p:cNvPicPr/>
          <p:nvPr/>
        </p:nvPicPr>
        <p:blipFill>
          <a:blip r:embed="rId2"/>
          <a:stretch/>
        </p:blipFill>
        <p:spPr>
          <a:xfrm>
            <a:off x="2584440" y="3481560"/>
            <a:ext cx="54072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9T08:01:50Z</dcterms:created>
  <dc:creator>Schäffer-Külz</dc:creator>
  <dc:description/>
  <dc:language>en-US</dc:language>
  <cp:lastModifiedBy>Ute Schaeffer-Kuelz</cp:lastModifiedBy>
  <dcterms:modified xsi:type="dcterms:W3CDTF">2024-04-22T11:56:13Z</dcterms:modified>
  <cp:revision>4261</cp:revision>
  <dc:subject/>
  <dc:title>PowerPoint-Präsentation</dc:title>
</cp:coreProperties>
</file>